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media/image28.png" ContentType="image/png"/>
  <Override PartName="/ppt/media/image5.jpeg" ContentType="image/jpeg"/>
  <Override PartName="/ppt/media/image1.jpeg" ContentType="image/jpe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25.png" ContentType="image/png"/>
  <Override PartName="/ppt/media/image2.png" ContentType="image/png"/>
  <Override PartName="/ppt/media/image4.jpeg" ContentType="image/jpeg"/>
  <Override PartName="/ppt/media/image10.wmf" ContentType="image/x-wmf"/>
  <Override PartName="/ppt/media/image11.png" ContentType="image/png"/>
  <Override PartName="/ppt/media/image30.png" ContentType="image/png"/>
  <Override PartName="/ppt/media/image3.png" ContentType="image/png"/>
  <Override PartName="/ppt/media/image26.png" ContentType="image/png"/>
  <Override PartName="/ppt/media/image14.wmf" ContentType="image/x-wmf"/>
  <Override PartName="/ppt/media/image29.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12.png" ContentType="image/png"/>
  <Override PartName="/ppt/media/image23.jpeg" ContentType="image/jpeg"/>
  <Override PartName="/ppt/media/image24.png" ContentType="image/png"/>
  <Override PartName="/ppt/media/image2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CB58B-A5E0-43EA-9E81-F157ECE22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B968C-8FE0-40F2-AFEE-43DBE72FF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5A6B2D2-54AE-4592-A4DB-F5911576CC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30F141C-A912-4E3C-BE02-E23D40C34A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631AF27-43AD-4CAC-B631-C25F0ADEA6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F8DACBB-97B6-4DAA-BC86-FB45A7CADB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7DFDB52-E2B8-48D7-B8B4-027F75B638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EDAE647-5E4C-48E3-A092-6325E872BE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2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87476E5-CA2A-47B7-B60E-F173FEB5CF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C03166C8-1901-49C9-A677-FD73CF912F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3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75394A73-4D21-4200-B169-1D051D28C0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F59CEC71-C181-4CD1-8E44-6756EC92097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8D3CC-08B3-454A-90EC-B23767480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4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F47D6F4-AB3E-4EDA-A28B-F577DB5076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F511C2ED-BEE8-4C03-8EFC-8EA637F8CE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9AC2336-DE9C-4867-96AF-7971055299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12656044-24A7-452B-AAA5-53FDFD10BF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871F8B2-9CF7-46C3-8F1F-EA7DA6D19E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F46876C-01CA-40F9-9868-D6CC7CCC4C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6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934C391-5AD4-4B78-9E5F-508F9D47A7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6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681031C-5CE0-41EB-BEB3-9AA4CE5955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7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015A343-525A-42E4-9A49-2305A73633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7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47355142-09CB-4222-BFC7-55F2CB623C8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B0ABA-71A8-442B-A348-694675EDF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7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96A2337D-1FAC-42CD-871E-240DFAF53E3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EF0ED8C9-0119-4F47-A853-E29E0F726FC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7"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4BDFBB06-C5B1-4D04-964E-255AC77697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9"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6877020C-8301-4FD0-8B9F-0FAF37F060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0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71E6D3C5-B6F2-4A94-A6C5-4BF575873E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9568A037-041F-40E6-9464-8F79B8D20C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DFEF5838-1FCA-4743-B810-8D5F73369E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0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7D5F6862-690F-4FF6-82FF-C2BF64BF00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2"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763F8B8-1446-4534-BDCA-6654892C2C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6"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B26FE4B-3375-412F-810C-6223F60BED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C08FD6-5F38-4483-962C-4049BA9F5F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8"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9"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A6EA7D2F-E3F9-453A-8844-7A4928DB9E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2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4"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B3249368-719E-4048-B04F-8F74BF03A6B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26"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7"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8"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9"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0"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1"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C7C1D46C-405F-4D4D-8985-29CD0F1C5D8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4590005-D18B-41A8-9B68-7C2975DF3EE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4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3A332D-4187-4C63-94E1-060A67A2FB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4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7DDC08-DCA0-4462-9A85-4325B30DF39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4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5652BF-DCCF-44F5-B86F-FE7E8AA1F4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D8A855-0F6B-47BE-9142-76B1383DFA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915869-A861-476F-8528-EC936120B99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58AFB0-BB47-4A57-B34A-6D6463389B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671B1-B84C-4D53-A97B-E9DB4CBEA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247544-4B2B-41A4-AEF6-2967ACC773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E05F6B-2EB0-4368-95E3-6D55DA19E8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6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121DEB-269D-4A8F-A285-E5A0666F05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6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E0548AF-1AFB-4D43-BB53-2DA95D721EA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7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BA0EBBF-04E3-47AC-85EF-4752BB02A74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B33A1ED-085B-4855-91A9-1C062C2ACED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8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8CAFE0A-2B6F-4D27-8236-89D2B0DC34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8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ACF186-0105-45F5-9212-D74BB524D42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9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2C9939-D58E-47F8-B04A-0BC6C2291C3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54CC4DD-AD6B-4D19-8899-E465E41F82A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CCDD2-B6E9-4939-85B2-F9B469FD6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E981C61-486D-4A30-A20D-829C2F7590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2724D2-3DBF-483E-A62E-4267287251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9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161345-823B-459D-9E47-CB1A522886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23C524-8ED6-4C73-B9BC-3229EDE0C3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C3D406-EFB5-41D7-9429-B4139D0626B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1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B02D429-CEA5-4C7C-9256-4D31996FDD3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1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0F94D39-514A-480C-AEEA-EC2478A76A2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E88CFF4-B053-4CBD-B6F5-8E382337CD9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3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902AD8-86D8-4384-829D-42C326F652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3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504A90C-53FE-41EB-9324-1D1AE113F1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CD350-1C5D-4A44-B666-465C7BBFA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3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07C45F1-BB33-4924-8935-0BCEE4EF476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BACAE4D-B927-4349-A8B1-A558562E789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D454A52-FF16-4586-9E19-AD704443E11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37B8E9-47D8-49AC-A3A5-74AD693C94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714E579-09FD-40A1-8452-16D2439033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2CF7BE5-10D8-4A66-BE42-3A414250D00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5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4C9BDC-2B13-455F-906C-C51FA08AD28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5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AD85DF2-AD7A-455F-88C3-44839CA3256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6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304A5C3-6924-4C79-90CD-CB3D40C3F31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9D03F33-3A39-41ED-B85F-FF3F8FA444A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C0996-2320-4251-BB6A-9A5FB9647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7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D3D3FD3-0A6C-436E-A489-89EA35095FD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7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6299D56-A970-4D68-84FB-7F719723892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7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9974AEF-F693-481B-B0A0-6B1B7115D5D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AA33963-235D-4716-85BC-35C882B16BC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4059BE5-8996-4161-9A68-1AA81EA5258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8275542-4C76-4AFA-8EEA-E0AB3F3157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A1F5B3F-EA91-4EC6-9CA1-FD88C6FF47E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0698FF0-EB9F-4F75-87CA-4C816606AC4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9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3822243-D0B0-40B3-99B7-B568539A600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9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815419E-5998-485F-A837-680507711E4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0BD6D-B959-4656-A6D2-7BCDA5A78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0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EC917A2-200E-4CCB-B9AC-F086E98D19C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062A2C5-5EDE-4C9E-89F1-7F42DD93BD1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13"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7C60F68-7A82-44E4-9C94-F5E4915BCF2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15"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672B0A5-B969-418B-9A9E-99B5CFDB8E4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1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0AE454A-A6F8-44ED-BFBC-F5D503A3984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641218B-489C-49B9-A190-FF43A323953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7ED1757-ED3C-46C5-AE74-C3B3707FAD5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C81575F-2E6B-4F4F-8649-979F03E97AD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8"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7B7DADA-0865-4FDE-8855-8B9A61C87B7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3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2"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A77D39F-BAEB-4B3C-9320-D8467A9FB93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CCB6E-A14D-436E-8256-CF35FB376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34"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5"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C8DCB19-1CCC-48AF-BC20-5A4F979E4D0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3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0"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D706A7D-64B4-4672-A347-A6167DF61F6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42"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3"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4"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5"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6"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7"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93BFAEF-1B58-4997-BE4E-034FFE547A6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7BF6F14-E336-4975-A59A-764569A2B8E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B2106C1-5868-485F-9FA0-A5ABA25A5C0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23997C9-9DEA-4EE6-A082-A4871CB76D1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38FCAE9-2A11-4324-8352-1849471FA25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F864259-548B-4545-AE96-38CAED05892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5C39005-471E-4F83-B538-99F0EF8DD6B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6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B07478D-9839-42C8-BCAC-3304DB97C54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6F3D0-1A6E-40A2-B3AE-E355701DD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3A1D3-239A-4C49-BF0A-5FF875902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6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F561721-DEEC-437E-90B5-E02283C560D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5FF90F7-5997-4921-839A-60EB66891CD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7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6020805-8541-4478-B685-51BFBB638D7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7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FD09772-5E48-46C0-B343-C80E735790A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8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C8440FE-9F2E-409A-A763-A91361A644E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6DB5554-38E8-4CCD-9429-ADF679502E8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9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3FDE254-34E9-4B13-AED9-83BB7FBF480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F4A969E-337B-4A4C-9E79-D4EAA5FF06B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434F7C1-6681-4C68-BCC0-6E0199CFF8D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1043705-7725-4965-927F-BBBEEAEDC90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E705F-B93B-4C8A-AAE2-3FD964AC0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261152F-1CCA-4D43-AFCD-FDAE63FC6A4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6165100-0AB8-4A26-A98D-7FF574CD5D1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1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7CCA962-6F59-44D5-A304-D8828C701A7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1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262089B-508A-4C25-A50E-CB789D14D56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1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30902B6-FFC1-498A-88E5-55E6DD53402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02A5FA8-B2B9-4481-821C-3A881199985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2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2602122-726C-4E03-B8C0-D34B6C115B8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6"/>
          </p:nvPr>
        </p:nvSpPr>
        <p:spPr/>
        <p:txBody>
          <a:bodyPr/>
          <a:p>
            <a:fld id="{9A8505E9-7640-474B-8219-37DEB0329A3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4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B903584B-373F-423A-AB6B-A0D1EFD981E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4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0FEBA2E6-6381-4E9C-BE68-7B335A6BB58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DCF5A-1DCF-41D4-A903-1A325164F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4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7F819EFC-915B-4D3C-B794-F32070D7A78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B996A22E-818C-4EED-B14A-DAE8EFAD107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5044EFA0-F095-4E28-B110-89BEB1E46A3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5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3EF9CECA-7408-4F3C-A445-6A38B943C27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61FF6F1B-AE8D-42C9-9A28-E8B1D2E63B0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2F0AB30D-4268-489D-A8AF-82D52DD82C6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6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08A7877B-E180-4BD2-90DE-3EE614B80DE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6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6"/>
          </p:nvPr>
        </p:nvSpPr>
        <p:spPr/>
        <p:txBody>
          <a:bodyPr/>
          <a:p>
            <a:fld id="{6FA6C268-E719-4202-8E35-C7548DE3349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7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6"/>
          </p:nvPr>
        </p:nvSpPr>
        <p:spPr/>
        <p:txBody>
          <a:bodyPr/>
          <a:p>
            <a:fld id="{48416573-BDE4-4EFF-AAC5-5CD9B3944D8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CD4B0C4C-670F-4685-A58C-DF207926AC4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C7C25-D61A-469A-971B-843C53E1A8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8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C96A47D1-93E5-4242-A31D-82665A4CF52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8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1975CB6B-DEC6-4B10-94CA-9691F73B297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9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EBB874FB-7023-4526-9F43-261400162A1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EBF4723A-2AA6-49AF-B12F-3EE4CA5249B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8E9654A3-1704-4AA6-AB38-207D6AA5551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88E9BE02-C83E-4D00-A638-47D53A3A41F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9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1DD680B4-F287-4F21-8EEE-FD40D22EE13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B162E43A-C962-4ADE-BA2B-FA8F1947341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0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40ACAD56-F7DE-488D-B279-D5BB303C9A3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1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A9F5D811-432A-4316-9F34-C591FC5D668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DDE263-FEBB-4310-9FA7-4E82AE1FE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1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2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6198B3F8-7277-43EA-81F3-DB5D8E65964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2"/>
          </p:nvPr>
        </p:nvSpPr>
        <p:spPr/>
        <p:txBody>
          <a:bodyPr/>
          <a:p>
            <a:fld id="{A79D06DA-713E-476D-90C3-F601A627DB7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3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A3C2DC80-13BA-42EE-A4E3-1398C87AAD4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3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C1EB428E-F969-45B9-8CD2-067B9CBF323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3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221C0ED3-AB7A-4086-A32A-323C4ED5A88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5510D618-B14F-497F-BA66-B4718B9629B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E5D3EDA2-D755-4107-BC48-2B054594132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3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82579B03-59D6-406B-AE7F-A792E53F289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5325151B-B36C-4C19-B2C0-CAA1BD745DF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842DBE7F-2B13-40B9-91E2-4BD208AB34B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934502-C0C3-40E6-9CEA-16EFE4D92A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5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AEE72A38-3594-44B3-8288-EDB33BC4225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5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2"/>
          </p:nvPr>
        </p:nvSpPr>
        <p:spPr/>
        <p:txBody>
          <a:bodyPr/>
          <a:p>
            <a:fld id="{3D56F043-CC61-4485-B70D-2882B41CEB2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5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2"/>
          </p:nvPr>
        </p:nvSpPr>
        <p:spPr/>
        <p:txBody>
          <a:bodyPr/>
          <a:p>
            <a:fld id="{1B5DF483-AAA9-438D-B0FE-AFA4C80C2CD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21A7565-0AC1-4FF1-AD7C-90B3E5E7507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7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54FDCC1-FBCB-4D11-A042-B3DAD3286DF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7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53B10C2-156B-4963-8CF5-FA6CD509D64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ACF7AFF-16A3-428F-9879-3A041D4BE65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FCAE845-32F3-481A-AE9A-0257E95620A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E5E5737-CB86-4039-9BD3-C3AF98F4D17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B307384-B813-410A-A105-5C2743B5548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A36068-224D-4775-8C94-2C6CFF032E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AB9CE44-773B-4119-AF27-9F838703B91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56944DA-318B-4DAC-86A7-5FD141D61E8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9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BD9F181-C802-41E8-BFBA-D979B69FF01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2B72F40-D44A-4243-9343-A60B65147FE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0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6B9695F3-FD63-442E-9C8A-63C6A56E2FD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68"/>
          </p:nvPr>
        </p:nvSpPr>
        <p:spPr/>
        <p:txBody>
          <a:bodyPr/>
          <a:p>
            <a:fld id="{7EC73EFD-2231-4BEC-9A8A-A240B0CEFC2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1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8"/>
          </p:nvPr>
        </p:nvSpPr>
        <p:spPr/>
        <p:txBody>
          <a:bodyPr/>
          <a:p>
            <a:fld id="{64C25C3A-5874-4399-939B-5AA8B73F682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1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8"/>
          </p:nvPr>
        </p:nvSpPr>
        <p:spPr/>
        <p:txBody>
          <a:bodyPr/>
          <a:p>
            <a:fld id="{8E39E7F6-9889-465C-9F4E-3D75E7F74A3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2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8"/>
          </p:nvPr>
        </p:nvSpPr>
        <p:spPr/>
        <p:txBody>
          <a:bodyPr/>
          <a:p>
            <a:fld id="{542B29F7-E842-44E3-B0A1-BB9860B9DA7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8"/>
          </p:nvPr>
        </p:nvSpPr>
        <p:spPr/>
        <p:txBody>
          <a:bodyPr/>
          <a:p>
            <a:fld id="{DD98D6DD-7BF1-4BD8-B758-BC076AD93AD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1A37D1-4293-4A87-99F9-2B2C853561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8"/>
          </p:nvPr>
        </p:nvSpPr>
        <p:spPr/>
        <p:txBody>
          <a:bodyPr/>
          <a:p>
            <a:fld id="{C38EDC3E-A0BA-4FF7-AB1B-50ED74FEAAF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39AAEA20-20BB-4834-9882-0BE6F4A3D1D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2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7FED5964-D855-480E-818C-F220950C6C7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F6039BB4-5E37-49AE-9CB1-57A982158C5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8"/>
          </p:nvPr>
        </p:nvSpPr>
        <p:spPr/>
        <p:txBody>
          <a:bodyPr/>
          <a:p>
            <a:fld id="{9517EA08-202F-41AB-AB66-BBDF0CF2ECB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4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68"/>
          </p:nvPr>
        </p:nvSpPr>
        <p:spPr/>
        <p:txBody>
          <a:bodyPr/>
          <a:p>
            <a:fld id="{77F8EEE8-786F-4DD9-8A2F-5156A2975C1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4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68"/>
          </p:nvPr>
        </p:nvSpPr>
        <p:spPr/>
        <p:txBody>
          <a:bodyPr/>
          <a:p>
            <a:fld id="{0DB7A6AC-8228-4912-A13D-5C6D0A19692E}"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748EE8C-DD6D-4021-B7FA-FD98C8FA685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6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0AE5643-A5BD-4F83-9AB5-A213769A2A9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6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9E5ABB1-D4B7-442A-A7DD-7AA3020D49C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9FF3C9-66BE-4357-BCFE-FB76A9E78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6BFC582-8B84-48D2-B095-FFEC554D9FE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6A7E33B-E030-4816-ADC6-7852A17D0D3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E55379B-4BFB-4EA5-AAC8-81810197764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6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6FAC930-1E03-45C2-81F6-853611F94D7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E312070-51B5-4B7A-9ECF-51967B7EB0A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6D2458A-06BC-4934-BDE4-2E67EFB9740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8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9496A2F-B8F1-4A5C-8DDA-1583355C89B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8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866039A-874A-4868-94DA-CD6386B741A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8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9A7CBC3-F6B8-4CD1-8706-B657A4A9BCFC}"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D4BDAAE-BB9C-491D-9C5D-F53B010352E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D0EFC0-3213-45E2-9342-352D46F7ED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0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56EDFB1-48AC-4ECF-A335-FB30FBE9787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0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BB51BA7-1B64-4354-98DC-2EC140B6ED0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0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18F6F67-5921-461E-9D38-98A95589D6C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9162724-36A7-4D6A-9E54-3649156A6B1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DA7A5C6-6685-41FF-86A1-662A5116F98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6B54F64-2116-4047-A4FC-288C2FC54B3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4F40583-BB0E-44D4-A201-A1B5D57754F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647AF3D-68BF-4D60-97C0-F70BD35D79E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2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9BD1C4A-5BAD-40DC-B429-5128A9EB6EE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2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C02FD69-67DF-4A64-BDA0-C0E0F31D43A3}"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D496B-F224-403C-8FB5-24244177B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767CC5-C3B5-4CBD-AAFC-E321CF3C52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3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A84AD35-8D9C-416E-BA67-BFCB3749662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4C53912-8373-4544-AE7D-2166482EE8C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4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AFD6960-8B8D-4F99-87E7-5F8797A93C9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0F0968B-EAA9-458F-974D-C5C4DCB8912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4963659-D109-448C-B357-FE566EDBF85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279775F-169F-47DA-88D5-6398A251EAF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2D578F2-4BEB-48B8-B30D-9CFC92BD83E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5D23340-7FDC-4BC9-9582-A797E9DEF7C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6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6D5D2EC-B36A-4789-8129-1987F8C2732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6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BDAD78A-CF17-4459-84DD-C0E7E0CE524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69A3D8-69E4-4396-AB6B-3F4522C76E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6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F6AA51C-C983-48A9-BDDA-D2FAC41E9FD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7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07DC1BD-370A-4044-84BC-F539B583C4B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7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2FE1761-C117-4CED-A06A-F0C7CD8294C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E71E6AE-7866-495A-8390-9106F244CFD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9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F7077AA-0B51-4AD0-AA29-5F4BA6B8309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9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A6619DE-048E-450C-9FB4-34B302B6FE4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9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A18A0ED-628D-4407-9486-FB0AEC74A91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E266955-F7BA-4FF9-A039-F9A317C2ED8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2DF7055-03A0-4E02-A2CA-41A8054017E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0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3936822-9EFA-4969-8CBE-7601DF96B44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D2E8EC-1FBC-4CDB-B96A-55EA64A150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0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71B09DD-6DFE-4FE3-B5E9-41BFA364340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0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9443478-D790-49B8-9CB0-5D89DC8553C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1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3145DAE-4B6D-478C-9870-3782ED8F340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1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84DA71C-E813-4171-890D-1317985BB27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2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2695091-2503-43AD-A231-DBA98D04D3D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7E2395C-EE25-479F-9F04-B3075259491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E2A15F5-5C4A-43F9-BD8C-7B657D9630E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30A8131-1BA1-4C70-9417-7EA0D65240C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B6E232E-2506-44AB-A6D2-FAE84F83DF8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B4E3CB4-BC7A-411A-90EA-B10DE99BE59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38F735-D71B-4D51-8DB6-95FD68FBC5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ACA418B-ACCD-4AB9-80E1-A6A13B36B24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4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13FD0B9-9460-481A-8F99-7BB22ECE69B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4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6033190-C42F-488A-A495-9B0D044F003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4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FFE98EE-F151-4C56-B25F-C30FEDC22A5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5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D3CAC6C-6BCA-463F-B865-CF9E891ABF7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5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EFEDFFF-46A1-4487-851C-3524CD480A4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6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425717ED-C136-489F-9289-DB40BBD32E3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BFBBF38B-01E7-4418-A3B2-3EE888D6304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7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68254F8-8F5F-4C12-9EE3-16A90DD0CA6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7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2FA7412-6A6D-4BFA-8CF0-85A73CB3E4E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437AD6-3498-43C5-97BD-3645E92BCB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7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FBB17DD-EB59-4958-881B-D92D6307869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18A37A5-8313-417E-AEF6-347C0C51F8B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1F04F7D-B622-4F0E-B239-EB7EE095C37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8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B48ABB4-ADA0-452C-82A5-BAD03FF6DA8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8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3807A3F-ACE5-4024-8548-1B6C485D99A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9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87E8EA7-33D5-4BEF-A16D-FDA963937B6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9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121B35E-4D3D-41B2-A222-C05D371A8A7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9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11285406-D3EF-4304-8777-F48C6F4057B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0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C37C7E3E-8606-46D0-AA18-81E33E4566F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77D264B8-2F83-4F6F-AC86-920D4FD4EE65}"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9710F1-DEC3-4408-A129-B518E6D506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1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1BEAA36-55D6-465E-BBB9-813F71D0CE1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1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FCE1ACB-3172-4A43-9D14-1CAFE6B88FA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2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8B4CEA2-A022-4C31-A46F-1CBDE770FB0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0A61F11-BD31-43F0-8995-68FD1906CF6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2D8AD19-F01E-4E29-BB5C-8065A6424DD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290AD74-46AC-4124-A85B-EDB9E3DEC65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2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DD3BA85-6526-43D8-97CC-D8D8F851E09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3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319457F-9D73-443B-8323-68FC2FB01F1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3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B523C6A-048E-4476-9B3B-96FD5C2273D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4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365C072-A61C-4452-882C-DC71DB56B827}"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FE7780-8073-451E-98B9-238DDA2F10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4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1A532FA9-C283-4FDA-9338-7B3FE052A44E}"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98E1AC-1854-4142-95D7-07A6B0BB0F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D80C00-66AE-4AAC-BD93-7139B96056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AF40B9-31FF-40E9-B0D0-3AEBB99C8C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5A12E-1E43-4651-A1D3-B5008B4F2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076693-11E8-4D94-A665-6BF2A58D7C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FCDD27-040A-4D63-94E0-00254079A8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B306A2-71AF-4495-982A-70C93163AA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FFF39-D037-433C-90A5-E66E50A83A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787A13-2470-4C83-AB8A-923AF09722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904165-02A8-41F6-9D8C-6C5742D3EE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954AAA-D9AD-41C8-97C8-2BE4719DEC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CF9B06-65EE-4BB9-8E22-401C5D1109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3BF266-94DD-4775-BEC0-84EBDA82C8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3DF78D-93DD-4011-B97F-40E33841A3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1F6C9-6C6D-4C22-B71B-D6EBD8F3A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3"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5679AC-0719-4279-BD7C-592F2C7CC2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8F3C8E-E08D-4698-B858-2C3C294581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43157E-9545-4AF7-9C7D-3189B8AF7E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6595AE-E9BB-4E07-838E-7B105B7741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81EB9D-22F9-47C8-89EE-5498EA003B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D20BF4-5B7E-4934-86A8-B36723C99F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2CEF8A-D038-4F6E-9A0C-AB61CE7A68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9296E-2CA7-46DF-8DCC-CC8C2837F9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4"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6D957A-476B-4B86-84AE-821B64A0FD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0"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A3E48C-0F4A-4D23-8A63-A0D8CC962C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DD6C3-89AD-43BA-AF5B-34E75E425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2"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3"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5"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6"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7"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94E0C9-2620-4781-B822-453B821C5C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3069CD-9C31-4926-9AA1-4ABA10F91F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0A7D28-E558-469F-A9E5-05AAA76338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0C5B70-1A7F-4DF3-AB27-A48654F866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FF9674-92E2-4F7A-BF99-B072F66005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33B5E1-ED1F-4C20-8FE7-65ACFACD3C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34BE30-9111-4A1A-9BC2-882E6409C5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01C375-D92D-41F1-AC22-CA4BC74685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74E225-0EB8-47F3-99E2-6A58862683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2D37C0-1AA0-44C3-8F1E-738353BED2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A39D0-6612-45BC-9959-BC417B9A6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6D9C1D-5D25-4C98-A583-A5BC79C207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2BC488-1174-4F1E-A575-975C972BF6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99A818-F9A2-4386-BF2A-E024E94FC6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07409A7-7949-4579-B850-E4D7A47C7B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7"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1A9CF74-2785-4EEF-A718-127B1CA046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9"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4C59732-EF08-49B1-A700-925E15F5E1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2F6E51D-3AD2-4467-84E1-CEE27D6183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BD5EA3A-7CF2-4716-9011-8662E6EE8E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4C6F4DD-1EFE-4207-A541-4324DFBA3C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4BE170B-8826-4554-9DBC-796A859FAC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423D6-A4F5-4973-B2C4-D2C4F273D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2"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3366195-6C74-485B-8C4B-086342FE31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73D9B92-7FF2-41FE-B3F1-85A77CE651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8"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9"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F94431E-2C5A-4B86-AD43-9C6D055578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4"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B24EE5E-B9EC-4CAC-8F49-3C26804637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6"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7"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8"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9"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1"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0147009-9A4A-420A-9D72-5A9129EEEE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266033-78D9-44E0-AAD9-79327CC88E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006EB4-8598-42FA-B24B-9BB4A382AF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55456A-D3E7-4522-953F-C0C1AD7FCD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1C90BB-E826-4420-8108-460291E3FE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9689DE-B1A9-49CE-94A4-A9CF7FF022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86AF3-60EF-4090-8408-8C07D482B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D9AC20-524B-4FB5-B5E2-442334F6A3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5E17BC-E36E-4F38-87B0-5010A8CAEF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4D901E-974A-4CBE-870A-FAD4DF51D2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112F8B-37DE-4BA0-B893-C64385A676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6EE110-2803-4EA0-B479-A2FA2658B7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8B1A1C-4046-48CC-9F5C-0855CBA9B7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8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D2B54C-876D-448C-B17D-D1FDD8E183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2F9BB3D6-66C7-4396-A719-70B102E471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B956D0E-B33C-41B7-ACFC-11AA981B7B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4E259E9-BA3F-41A0-B2A8-8FA5A08C855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6B041-2FEC-440C-A7A8-D72A99084C6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4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45" name="PlaceHolder 3"/>
          <p:cNvSpPr>
            <a:spLocks noGrp="1"/>
          </p:cNvSpPr>
          <p:nvPr>
            <p:ph type="dt" idx="2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46"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E3948-C45F-47C0-90FC-712F467226E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447" name="PlaceHolder 5"/>
          <p:cNvSpPr>
            <a:spLocks noGrp="1"/>
          </p:cNvSpPr>
          <p:nvPr>
            <p:ph type="ftr" idx="30"/>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9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93" name="PlaceHolder 3"/>
          <p:cNvSpPr>
            <a:spLocks noGrp="1"/>
          </p:cNvSpPr>
          <p:nvPr>
            <p:ph type="dt" idx="3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94" name="PlaceHolder 4"/>
          <p:cNvSpPr>
            <a:spLocks noGrp="1"/>
          </p:cNvSpPr>
          <p:nvPr>
            <p:ph type="sldNum" idx="32"/>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C68A-4223-4624-B4B5-16B5BC25ED0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495" name="PlaceHolder 5"/>
          <p:cNvSpPr>
            <a:spLocks noGrp="1"/>
          </p:cNvSpPr>
          <p:nvPr>
            <p:ph type="ftr" idx="3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2"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53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38" name="PlaceHolder 3"/>
          <p:cNvSpPr>
            <a:spLocks noGrp="1"/>
          </p:cNvSpPr>
          <p:nvPr>
            <p:ph type="dt" idx="3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539" name="PlaceHolder 4"/>
          <p:cNvSpPr>
            <a:spLocks noGrp="1"/>
          </p:cNvSpPr>
          <p:nvPr>
            <p:ph type="ftr" idx="3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5"/>
          <p:cNvSpPr>
            <a:spLocks noGrp="1"/>
          </p:cNvSpPr>
          <p:nvPr>
            <p:ph type="sldNum" idx="3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7C8E5-47F1-4917-A3C4-24154386DBE2}" type="slidenum">
              <a:rPr b="0" lang="en-US" sz="1300" spc="-1" strike="noStrike">
                <a:solidFill>
                  <a:srgbClr val="ffffff"/>
                </a:solidFill>
                <a:latin typeface="Century Gothic"/>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7"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58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82" name="PlaceHolder 3"/>
          <p:cNvSpPr>
            <a:spLocks noGrp="1"/>
          </p:cNvSpPr>
          <p:nvPr>
            <p:ph type="dt" idx="3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583" name="PlaceHolder 4"/>
          <p:cNvSpPr>
            <a:spLocks noGrp="1"/>
          </p:cNvSpPr>
          <p:nvPr>
            <p:ph type="ftr" idx="3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F23A-F3D7-47F4-AFEE-4A882720B258}"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626"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627" name="PlaceHolder 3"/>
          <p:cNvSpPr>
            <a:spLocks noGrp="1"/>
          </p:cNvSpPr>
          <p:nvPr>
            <p:ph type="dt" idx="4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628" name="PlaceHolder 4"/>
          <p:cNvSpPr>
            <a:spLocks noGrp="1"/>
          </p:cNvSpPr>
          <p:nvPr>
            <p:ph type="ftr" idx="4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PlaceHolder 5"/>
          <p:cNvSpPr>
            <a:spLocks noGrp="1"/>
          </p:cNvSpPr>
          <p:nvPr>
            <p:ph type="sldNum" idx="4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0573-4B52-4F8B-837B-E383E14FE1D2}"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66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668" name="PlaceHolder 3"/>
          <p:cNvSpPr>
            <a:spLocks noGrp="1"/>
          </p:cNvSpPr>
          <p:nvPr>
            <p:ph type="dt" idx="4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669" name="PlaceHolder 4"/>
          <p:cNvSpPr>
            <a:spLocks noGrp="1"/>
          </p:cNvSpPr>
          <p:nvPr>
            <p:ph type="ftr" idx="4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PlaceHolder 5"/>
          <p:cNvSpPr>
            <a:spLocks noGrp="1"/>
          </p:cNvSpPr>
          <p:nvPr>
            <p:ph type="sldNum" idx="4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50E6-63AB-40F2-ABF7-29F5FA1770DA}"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70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709" name="PlaceHolder 3"/>
          <p:cNvSpPr>
            <a:spLocks noGrp="1"/>
          </p:cNvSpPr>
          <p:nvPr>
            <p:ph type="dt" idx="4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710" name="PlaceHolder 4"/>
          <p:cNvSpPr>
            <a:spLocks noGrp="1"/>
          </p:cNvSpPr>
          <p:nvPr>
            <p:ph type="ftr" idx="4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5"/>
          <p:cNvSpPr>
            <a:spLocks noGrp="1"/>
          </p:cNvSpPr>
          <p:nvPr>
            <p:ph type="sldNum" idx="4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B360-D1E9-45AD-BF43-6768E7A9C96E}"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7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750" name="PlaceHolder 3"/>
          <p:cNvSpPr>
            <a:spLocks noGrp="1"/>
          </p:cNvSpPr>
          <p:nvPr>
            <p:ph type="dt" idx="4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751" name="PlaceHolder 4"/>
          <p:cNvSpPr>
            <a:spLocks noGrp="1"/>
          </p:cNvSpPr>
          <p:nvPr>
            <p:ph type="ftr" idx="5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PlaceHolder 5"/>
          <p:cNvSpPr>
            <a:spLocks noGrp="1"/>
          </p:cNvSpPr>
          <p:nvPr>
            <p:ph type="sldNum" idx="5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980E-840A-428E-9161-3588CDF255B9}"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789"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79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794" name="PlaceHolder 3"/>
          <p:cNvSpPr>
            <a:spLocks noGrp="1"/>
          </p:cNvSpPr>
          <p:nvPr>
            <p:ph type="dt" idx="52"/>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795" name="PlaceHolder 4"/>
          <p:cNvSpPr>
            <a:spLocks noGrp="1"/>
          </p:cNvSpPr>
          <p:nvPr>
            <p:ph type="ftr" idx="53"/>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5"/>
          <p:cNvSpPr>
            <a:spLocks noGrp="1"/>
          </p:cNvSpPr>
          <p:nvPr>
            <p:ph type="sldNum" idx="54"/>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FBD6D-D10B-417D-8E3F-6BC4A9236703}"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3"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83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838" name="PlaceHolder 3"/>
          <p:cNvSpPr>
            <a:spLocks noGrp="1"/>
          </p:cNvSpPr>
          <p:nvPr>
            <p:ph type="dt" idx="5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839" name="PlaceHolder 4"/>
          <p:cNvSpPr>
            <a:spLocks noGrp="1"/>
          </p:cNvSpPr>
          <p:nvPr>
            <p:ph type="sldNum" idx="56"/>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908B-F707-432C-A097-E26007153894}"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840" name="PlaceHolder 5"/>
          <p:cNvSpPr>
            <a:spLocks noGrp="1"/>
          </p:cNvSpPr>
          <p:nvPr>
            <p:ph type="ftr" idx="5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5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2" name="PlaceHolder 3"/>
          <p:cNvSpPr>
            <a:spLocks noGrp="1"/>
          </p:cNvSpPr>
          <p:nvPr>
            <p:ph type="dt" idx="4"/>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53" name="PlaceHolder 4"/>
          <p:cNvSpPr>
            <a:spLocks noGrp="1"/>
          </p:cNvSpPr>
          <p:nvPr>
            <p:ph type="ftr" idx="5"/>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87E6-9C41-45F6-9E64-414B8DA96AFF}"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88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882" name="PlaceHolder 3"/>
          <p:cNvSpPr>
            <a:spLocks noGrp="1"/>
          </p:cNvSpPr>
          <p:nvPr>
            <p:ph type="dt" idx="58"/>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883" name="PlaceHolder 4"/>
          <p:cNvSpPr>
            <a:spLocks noGrp="1"/>
          </p:cNvSpPr>
          <p:nvPr>
            <p:ph type="sldNum" idx="5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FAFE6-2B3D-467F-9311-F1FDAC4F691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884" name="PlaceHolder 5"/>
          <p:cNvSpPr>
            <a:spLocks noGrp="1"/>
          </p:cNvSpPr>
          <p:nvPr>
            <p:ph type="ftr" idx="60"/>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26" name="PlaceHolder 3"/>
          <p:cNvSpPr>
            <a:spLocks noGrp="1"/>
          </p:cNvSpPr>
          <p:nvPr>
            <p:ph type="dt" idx="6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27" name="PlaceHolder 4"/>
          <p:cNvSpPr>
            <a:spLocks noGrp="1"/>
          </p:cNvSpPr>
          <p:nvPr>
            <p:ph type="sldNum" idx="62"/>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EC51-CBBD-495D-9690-EE7DCBB3370F}"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928" name="PlaceHolder 5"/>
          <p:cNvSpPr>
            <a:spLocks noGrp="1"/>
          </p:cNvSpPr>
          <p:nvPr>
            <p:ph type="ftr" idx="63"/>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67" name="PlaceHolder 3"/>
          <p:cNvSpPr>
            <a:spLocks noGrp="1"/>
          </p:cNvSpPr>
          <p:nvPr>
            <p:ph type="dt" idx="64"/>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68" name="PlaceHolder 4"/>
          <p:cNvSpPr>
            <a:spLocks noGrp="1"/>
          </p:cNvSpPr>
          <p:nvPr>
            <p:ph type="ftr" idx="6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PlaceHolder 5"/>
          <p:cNvSpPr>
            <a:spLocks noGrp="1"/>
          </p:cNvSpPr>
          <p:nvPr>
            <p:ph type="sldNum" idx="66"/>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7259-A45F-4DC5-8203-B763B56A1BBD}"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6"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01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012" name="PlaceHolder 3"/>
          <p:cNvSpPr>
            <a:spLocks noGrp="1"/>
          </p:cNvSpPr>
          <p:nvPr>
            <p:ph type="dt" idx="67"/>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013" name="PlaceHolder 4"/>
          <p:cNvSpPr>
            <a:spLocks noGrp="1"/>
          </p:cNvSpPr>
          <p:nvPr>
            <p:ph type="sldNum" idx="68"/>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9202-CE28-46E1-B58E-3BD1117BFF34}"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1014" name="PlaceHolder 5"/>
          <p:cNvSpPr>
            <a:spLocks noGrp="1"/>
          </p:cNvSpPr>
          <p:nvPr>
            <p:ph type="ftr" idx="69"/>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05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056" name="PlaceHolder 3"/>
          <p:cNvSpPr>
            <a:spLocks noGrp="1"/>
          </p:cNvSpPr>
          <p:nvPr>
            <p:ph type="dt" idx="70"/>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057" name="PlaceHolder 4"/>
          <p:cNvSpPr>
            <a:spLocks noGrp="1"/>
          </p:cNvSpPr>
          <p:nvPr>
            <p:ph type="ftr" idx="71"/>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PlaceHolder 5"/>
          <p:cNvSpPr>
            <a:spLocks noGrp="1"/>
          </p:cNvSpPr>
          <p:nvPr>
            <p:ph type="sldNum" idx="72"/>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5783-73FD-425B-B162-08D41A6391A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5"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01" name="PlaceHolder 3"/>
          <p:cNvSpPr>
            <a:spLocks noGrp="1"/>
          </p:cNvSpPr>
          <p:nvPr>
            <p:ph type="dt" idx="7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02" name="PlaceHolder 4"/>
          <p:cNvSpPr>
            <a:spLocks noGrp="1"/>
          </p:cNvSpPr>
          <p:nvPr>
            <p:ph type="ftr" idx="7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PlaceHolder 5"/>
          <p:cNvSpPr>
            <a:spLocks noGrp="1"/>
          </p:cNvSpPr>
          <p:nvPr>
            <p:ph type="sldNum" idx="75"/>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6DA2-44FA-4EEC-80B1-DB191D63A6F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1140"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14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44" name="PlaceHolder 3"/>
          <p:cNvSpPr>
            <a:spLocks noGrp="1"/>
          </p:cNvSpPr>
          <p:nvPr>
            <p:ph type="dt" idx="7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1145" name="PlaceHolder 4"/>
          <p:cNvSpPr>
            <a:spLocks noGrp="1"/>
          </p:cNvSpPr>
          <p:nvPr>
            <p:ph type="ftr" idx="7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7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6C3A-358C-40CC-9AAC-9E44AD5F478C}"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118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18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87" name="PlaceHolder 3"/>
          <p:cNvSpPr>
            <a:spLocks noGrp="1"/>
          </p:cNvSpPr>
          <p:nvPr>
            <p:ph type="dt" idx="79"/>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1188" name="PlaceHolder 4"/>
          <p:cNvSpPr>
            <a:spLocks noGrp="1"/>
          </p:cNvSpPr>
          <p:nvPr>
            <p:ph type="ftr" idx="8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5"/>
          <p:cNvSpPr>
            <a:spLocks noGrp="1"/>
          </p:cNvSpPr>
          <p:nvPr>
            <p:ph type="sldNum" idx="81"/>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C81D-7A85-43CF-8860-0D14895A61D7}"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22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28" name="PlaceHolder 3"/>
          <p:cNvSpPr>
            <a:spLocks noGrp="1"/>
          </p:cNvSpPr>
          <p:nvPr>
            <p:ph type="dt" idx="82"/>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229" name="PlaceHolder 4"/>
          <p:cNvSpPr>
            <a:spLocks noGrp="1"/>
          </p:cNvSpPr>
          <p:nvPr>
            <p:ph type="ftr" idx="83"/>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PlaceHolder 5"/>
          <p:cNvSpPr>
            <a:spLocks noGrp="1"/>
          </p:cNvSpPr>
          <p:nvPr>
            <p:ph type="sldNum" idx="84"/>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F18E-095D-4D15-8FA4-5EF915DEE8E7}"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67"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27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71" name="PlaceHolder 3"/>
          <p:cNvSpPr>
            <a:spLocks noGrp="1"/>
          </p:cNvSpPr>
          <p:nvPr>
            <p:ph type="dt" idx="85"/>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272" name="PlaceHolder 4"/>
          <p:cNvSpPr>
            <a:spLocks noGrp="1"/>
          </p:cNvSpPr>
          <p:nvPr>
            <p:ph type="ftr" idx="86"/>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PlaceHolder 5"/>
          <p:cNvSpPr>
            <a:spLocks noGrp="1"/>
          </p:cNvSpPr>
          <p:nvPr>
            <p:ph type="sldNum" idx="87"/>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6417-C4E4-4532-A936-ABD99F52CCA1}"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20A1-6067-4D49-BEF1-C348A3BAEA8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1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2" name="PlaceHolder 3"/>
          <p:cNvSpPr>
            <a:spLocks noGrp="1"/>
          </p:cNvSpPr>
          <p:nvPr>
            <p:ph type="dt" idx="88"/>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13" name="PlaceHolder 4"/>
          <p:cNvSpPr>
            <a:spLocks noGrp="1"/>
          </p:cNvSpPr>
          <p:nvPr>
            <p:ph type="ftr" idx="89"/>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PlaceHolder 5"/>
          <p:cNvSpPr>
            <a:spLocks noGrp="1"/>
          </p:cNvSpPr>
          <p:nvPr>
            <p:ph type="sldNum" idx="90"/>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7DD2-33F2-4483-87E0-CFAE0A7AE13D}"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3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4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C6F0-0E97-47C9-8BC4-A02719CD6AE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grpSp>
        <p:nvGrpSpPr>
          <p:cNvPr id="142" name="Group 1"/>
          <p:cNvGrpSpPr/>
          <p:nvPr/>
        </p:nvGrpSpPr>
        <p:grpSpPr>
          <a:xfrm>
            <a:off x="-19080" y="203040"/>
            <a:ext cx="9181080" cy="648000"/>
            <a:chOff x="-19080" y="203040"/>
            <a:chExt cx="9181080" cy="648000"/>
          </a:xfrm>
        </p:grpSpPr>
        <p:grpSp>
          <p:nvGrpSpPr>
            <p:cNvPr id="143" name="Freeform 11"/>
            <p:cNvGrpSpPr/>
            <p:nvPr/>
          </p:nvGrpSpPr>
          <p:grpSpPr>
            <a:xfrm>
              <a:off x="-19080" y="203040"/>
              <a:ext cx="9162720" cy="648000"/>
              <a:chOff x="-19080" y="203040"/>
              <a:chExt cx="9162720" cy="648000"/>
            </a:xfrm>
          </p:grpSpPr>
          <p:pic>
            <p:nvPicPr>
              <p:cNvPr id="144" name="Freeform 11" descr=""/>
              <p:cNvPicPr/>
              <p:nvPr/>
            </p:nvPicPr>
            <p:blipFill>
              <a:blip r:embed="rId3"/>
              <a:stretch/>
            </p:blipFill>
            <p:spPr>
              <a:xfrm>
                <a:off x="3960" y="203040"/>
                <a:ext cx="9139680" cy="648000"/>
              </a:xfrm>
              <a:prstGeom prst="rect">
                <a:avLst/>
              </a:prstGeom>
              <a:ln w="0">
                <a:noFill/>
              </a:ln>
            </p:spPr>
          </p:pic>
          <p:sp>
            <p:nvSpPr>
              <p:cNvPr id="14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Freeform 12"/>
            <p:cNvGrpSpPr/>
            <p:nvPr/>
          </p:nvGrpSpPr>
          <p:grpSpPr>
            <a:xfrm>
              <a:off x="-19080" y="248040"/>
              <a:ext cx="9181080" cy="561600"/>
              <a:chOff x="-19080" y="248040"/>
              <a:chExt cx="9181080" cy="561600"/>
            </a:xfrm>
          </p:grpSpPr>
          <p:pic>
            <p:nvPicPr>
              <p:cNvPr id="147" name="Freeform 12" descr=""/>
              <p:cNvPicPr/>
              <p:nvPr/>
            </p:nvPicPr>
            <p:blipFill>
              <a:blip r:embed="rId4"/>
              <a:stretch/>
            </p:blipFill>
            <p:spPr>
              <a:xfrm>
                <a:off x="-3240" y="248040"/>
                <a:ext cx="9165240" cy="561600"/>
              </a:xfrm>
              <a:prstGeom prst="rect">
                <a:avLst/>
              </a:prstGeom>
              <a:ln w="0">
                <a:noFill/>
              </a:ln>
            </p:spPr>
          </p:pic>
          <p:sp>
            <p:nvSpPr>
              <p:cNvPr id="14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85"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8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89"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90"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574B-5429-4559-9033-1ABDF01D918B}"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4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46" name="PlaceHolder 3"/>
          <p:cNvSpPr>
            <a:spLocks noGrp="1"/>
          </p:cNvSpPr>
          <p:nvPr>
            <p:ph type="dt" idx="16"/>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47" name="PlaceHolder 4"/>
          <p:cNvSpPr>
            <a:spLocks noGrp="1"/>
          </p:cNvSpPr>
          <p:nvPr>
            <p:ph type="ftr" idx="17"/>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5"/>
          <p:cNvSpPr>
            <a:spLocks noGrp="1"/>
          </p:cNvSpPr>
          <p:nvPr>
            <p:ph type="sldNum" idx="18"/>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5280-CB89-4D7E-8025-50B37B1A1DE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9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93"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94"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BCAE-104F-4D0D-B0B5-2C251D9445F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95"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32"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34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350" name="PlaceHolder 3"/>
          <p:cNvSpPr>
            <a:spLocks noGrp="1"/>
          </p:cNvSpPr>
          <p:nvPr>
            <p:ph type="dt" idx="22"/>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351" name="PlaceHolder 4"/>
          <p:cNvSpPr>
            <a:spLocks noGrp="1"/>
          </p:cNvSpPr>
          <p:nvPr>
            <p:ph type="ftr" idx="23"/>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5"/>
          <p:cNvSpPr>
            <a:spLocks noGrp="1"/>
          </p:cNvSpPr>
          <p:nvPr>
            <p:ph type="sldNum" idx="24"/>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15FE-4FEE-4544-88B2-E433E253F35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9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97"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98"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35165-A586-4092-ACD6-BA4B0B021B8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99"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hyperlink" Target="http://www.wordle.net/show/wrdl/1526486/Untitled" TargetMode="External"/><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image" Target="../media/image15.png"/><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4.wmf"/><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1" name="Title 1" descr=""/>
          <p:cNvPicPr/>
          <p:nvPr/>
        </p:nvPicPr>
        <p:blipFill>
          <a:blip r:embed="rId2"/>
          <a:stretch/>
        </p:blipFill>
        <p:spPr>
          <a:xfrm>
            <a:off x="853920" y="1981080"/>
            <a:ext cx="8004240" cy="85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351"/>
                                        </p:tgtEl>
                                        <p:attrNameLst>
                                          <p:attrName>style.visibility</p:attrName>
                                        </p:attrNameLst>
                                      </p:cBhvr>
                                      <p:to>
                                        <p:strVal val="visible"/>
                                      </p:to>
                                    </p:set>
                                    <p:animEffect filter="checkerboard(across)" transition="in">
                                      <p:cBhvr additive="repl">
                                        <p:cTn id="7"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
          <p:cNvSpPr txBox="1"/>
          <p:nvPr/>
        </p:nvSpPr>
        <p:spPr>
          <a:xfrm>
            <a:off x="428760" y="1714680"/>
            <a:ext cx="8229600" cy="43891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Anna is one of Jan Fabels officers. She is short with shoulder length blonde hair. Considering her size she is very strong with broad shoulders, and a very pretty face. If you push her the wrong way her attitudes will change in a minute. She is very determined and willing to help out the team as much as she can. Anna watches her position and doesn’t move for any reason. She is fully capable of hand to hand combat and uses it when she has to. Anna is quiet outgoing and usually pretty happy. When she’s working  she focuses just on the mission at hand. She tends to worry when the matters  at hand take a different direction then what she had expected. Altogether Anna is an asset to Fabel’s team.</a:t>
            </a:r>
            <a:endParaRPr b="0" lang="en-US" sz="1800" spc="-1" strike="noStrike">
              <a:solidFill>
                <a:srgbClr val="ffffff"/>
              </a:solidFill>
              <a:latin typeface="Constantia"/>
            </a:endParaRPr>
          </a:p>
        </p:txBody>
      </p:sp>
      <p:pic>
        <p:nvPicPr>
          <p:cNvPr id="1385" name="Picture 2" descr="C:\Documents and Settings\Earl\Local Settings\Temporary Internet Files\Content.IE5\WJDVYNDD\MPj04392570000[1].jpg"/>
          <p:cNvPicPr/>
          <p:nvPr/>
        </p:nvPicPr>
        <p:blipFill>
          <a:blip r:embed="rId1"/>
          <a:stretch/>
        </p:blipFill>
        <p:spPr>
          <a:xfrm>
            <a:off x="3429000" y="0"/>
            <a:ext cx="2200320" cy="1643040"/>
          </a:xfrm>
          <a:prstGeom prst="rect">
            <a:avLst/>
          </a:prstGeom>
          <a:ln w="0">
            <a:noFill/>
          </a:ln>
        </p:spPr>
      </p:pic>
      <p:sp>
        <p:nvSpPr>
          <p:cNvPr id="1386" name="TextBox 4"/>
          <p:cNvSpPr/>
          <p:nvPr/>
        </p:nvSpPr>
        <p:spPr>
          <a:xfrm>
            <a:off x="3357720" y="928800"/>
            <a:ext cx="221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Paul is also a member  of Fabels team. He is a slim, tall muscular man. He is very caring for Anna’s life. He makes sure that she is never out of his sight when they work so nothing can happen to her, and is very concerned for her life. He handles the tasks at hand to the fullest he can. Paul is very concentrated on his work also and spends a lot of his time working. He’s a very hard working person and takes no breaks when the investigation is underway. Paul is very smart as well. </a:t>
            </a:r>
            <a:endParaRPr b="0" lang="en-US" sz="1800" spc="-1" strike="noStrike">
              <a:solidFill>
                <a:srgbClr val="ffffff"/>
              </a:solidFill>
              <a:latin typeface="Constantia"/>
            </a:endParaRPr>
          </a:p>
        </p:txBody>
      </p:sp>
      <p:pic>
        <p:nvPicPr>
          <p:cNvPr id="1388" name="Picture 2" descr="C:\Documents and Settings\Earl\Local Settings\Temporary Internet Files\Content.IE5\WJDVYNDD\MPj04392570000[1].jpg"/>
          <p:cNvPicPr/>
          <p:nvPr/>
        </p:nvPicPr>
        <p:blipFill>
          <a:blip r:embed="rId1"/>
          <a:stretch/>
        </p:blipFill>
        <p:spPr>
          <a:xfrm>
            <a:off x="3429000" y="0"/>
            <a:ext cx="2057400" cy="1785960"/>
          </a:xfrm>
          <a:prstGeom prst="rect">
            <a:avLst/>
          </a:prstGeom>
          <a:ln w="0">
            <a:noFill/>
          </a:ln>
        </p:spPr>
      </p:pic>
      <p:sp>
        <p:nvSpPr>
          <p:cNvPr id="1389" name="TextBox 3"/>
          <p:cNvSpPr/>
          <p:nvPr/>
        </p:nvSpPr>
        <p:spPr>
          <a:xfrm>
            <a:off x="3143160" y="1000080"/>
            <a:ext cx="2643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a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0" name=""/>
          <p:cNvGraphicFramePr/>
          <p:nvPr/>
        </p:nvGraphicFramePr>
        <p:xfrm>
          <a:off x="642960" y="142920"/>
          <a:ext cx="8072280" cy="6510240"/>
        </p:xfrm>
        <a:graphic>
          <a:graphicData uri="http://schemas.openxmlformats.org/drawingml/2006/table">
            <a:tbl>
              <a:tblPr/>
              <a:tblGrid>
                <a:gridCol w="2284560"/>
                <a:gridCol w="3097080"/>
                <a:gridCol w="2690640"/>
              </a:tblGrid>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haracte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Even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Reaction</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43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Jan Fab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Jan had thought that he had captured the killer so he went home to relax, opened a book that was given to him and was reading the meaning of names. He found out the MacSwain translates to Son of Sven.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He jumped to his feet and had to call everyone in quick so that they could go and catch him, because they knew Anna was in trouble. He was very anxious to get there. They got there just in time to save her life, catching the real killer. He may have become more observant as a resul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22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n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Anna went on a date with MacSwain to get evidence to prove he was the killer. She was watched and the date secretly controlled, but nothing occurred just then. She was sent home to catch up on sleep and MacSwain had followed her home. He drugged her and took her awa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Anna never had much of a reaction because she was drugged. She woke up feeling disoriented  scared and wondering where she was. Little did she know the other members of her team were there working to save her. She would become more cautious, and caref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2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au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Paul was with Jan and the rest of the team when they went on the  dangerous mission to save one of there own. He carried out just what he was told to d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Paul got very involved with what he was doing  and became a little sloppy with his work. In the end he was shot and kill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1" name="Title 1" descr=""/>
          <p:cNvPicPr/>
          <p:nvPr/>
        </p:nvPicPr>
        <p:blipFill>
          <a:blip r:embed="rId1"/>
          <a:stretch/>
        </p:blipFill>
        <p:spPr>
          <a:xfrm>
            <a:off x="96840" y="-298440"/>
            <a:ext cx="8718480" cy="674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2" name="Picture 4" descr=""/>
          <p:cNvPicPr/>
          <p:nvPr/>
        </p:nvPicPr>
        <p:blipFill>
          <a:blip r:embed="rId1"/>
          <a:stretch/>
        </p:blipFill>
        <p:spPr>
          <a:xfrm>
            <a:off x="0" y="0"/>
            <a:ext cx="3895560" cy="2921040"/>
          </a:xfrm>
          <a:prstGeom prst="rect">
            <a:avLst/>
          </a:prstGeom>
          <a:ln w="0">
            <a:noFill/>
          </a:ln>
        </p:spPr>
      </p:pic>
      <p:sp>
        <p:nvSpPr>
          <p:cNvPr id="1393" name="TextBox 5"/>
          <p:cNvSpPr/>
          <p:nvPr/>
        </p:nvSpPr>
        <p:spPr>
          <a:xfrm>
            <a:off x="4286160" y="214200"/>
            <a:ext cx="4286520" cy="2288520"/>
          </a:xfrm>
          <a:prstGeom prst="rect">
            <a:avLst/>
          </a:prstGeom>
          <a:noFill/>
          <a:ln w="9360">
            <a:solidFill>
              <a:srgbClr val="2c71ff"/>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believe that Hayden Panettiere would be the best Actress to play the role of Anna. She almost matches the character to a T., from her feisty personality to her appearance. She works very well with others and has played many different movies, and the hit T.V series “Heroes”.</a:t>
            </a:r>
            <a:endParaRPr b="0" lang="en-US" sz="1800" spc="-1" strike="noStrike">
              <a:solidFill>
                <a:srgbClr val="000000"/>
              </a:solidFill>
              <a:latin typeface="Arial"/>
            </a:endParaRPr>
          </a:p>
        </p:txBody>
      </p:sp>
      <p:pic>
        <p:nvPicPr>
          <p:cNvPr id="1394" name="Picture 5" descr=""/>
          <p:cNvPicPr/>
          <p:nvPr/>
        </p:nvPicPr>
        <p:blipFill>
          <a:blip r:embed="rId2"/>
          <a:stretch/>
        </p:blipFill>
        <p:spPr>
          <a:xfrm>
            <a:off x="0" y="2928960"/>
            <a:ext cx="2577960" cy="3929040"/>
          </a:xfrm>
          <a:prstGeom prst="rect">
            <a:avLst/>
          </a:prstGeom>
          <a:ln w="0">
            <a:noFill/>
          </a:ln>
        </p:spPr>
      </p:pic>
      <p:sp>
        <p:nvSpPr>
          <p:cNvPr id="1395" name="TextBox 7"/>
          <p:cNvSpPr/>
          <p:nvPr/>
        </p:nvSpPr>
        <p:spPr>
          <a:xfrm>
            <a:off x="4286160" y="3714840"/>
            <a:ext cx="4357800" cy="1739880"/>
          </a:xfrm>
          <a:prstGeom prst="rect">
            <a:avLst/>
          </a:prstGeom>
          <a:noFill/>
          <a:ln w="9360">
            <a:solidFill>
              <a:srgbClr val="2c71ff"/>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ichelle Keegan would make a good Maria for this book. She fits the pretty description of Maria with her brown hair. She has experience in not being a pushover. She has played in the T.V opera “Coronation Stre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6" name="Picture 2" descr=""/>
          <p:cNvPicPr/>
          <p:nvPr/>
        </p:nvPicPr>
        <p:blipFill>
          <a:blip r:embed="rId1"/>
          <a:stretch/>
        </p:blipFill>
        <p:spPr>
          <a:xfrm>
            <a:off x="0" y="0"/>
            <a:ext cx="2786040" cy="3857760"/>
          </a:xfrm>
          <a:prstGeom prst="rect">
            <a:avLst/>
          </a:prstGeom>
          <a:ln w="0">
            <a:noFill/>
          </a:ln>
        </p:spPr>
      </p:pic>
      <p:sp>
        <p:nvSpPr>
          <p:cNvPr id="1397" name="TextBox 6"/>
          <p:cNvSpPr/>
          <p:nvPr/>
        </p:nvSpPr>
        <p:spPr>
          <a:xfrm>
            <a:off x="4286160" y="357120"/>
            <a:ext cx="3857760" cy="2288520"/>
          </a:xfrm>
          <a:prstGeom prst="rect">
            <a:avLst/>
          </a:prstGeom>
          <a:noFill/>
          <a:ln w="9360">
            <a:solidFill>
              <a:srgbClr val="2c71ff"/>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m Baldwin I think would make a great Jan Fabel because I can see him being portrayed as a tough but intellectual person. He also looks to be about the same age as Jan Fabel and could fill the character. He has played in such movies as “My Bodyguard” and “The X-Files”.</a:t>
            </a:r>
            <a:endParaRPr b="0" lang="en-US" sz="1800" spc="-1" strike="noStrike">
              <a:solidFill>
                <a:srgbClr val="000000"/>
              </a:solidFill>
              <a:latin typeface="Arial"/>
            </a:endParaRPr>
          </a:p>
        </p:txBody>
      </p:sp>
      <p:pic>
        <p:nvPicPr>
          <p:cNvPr id="1398" name="Picture 4" descr=""/>
          <p:cNvPicPr/>
          <p:nvPr/>
        </p:nvPicPr>
        <p:blipFill>
          <a:blip r:embed="rId2"/>
          <a:stretch/>
        </p:blipFill>
        <p:spPr>
          <a:xfrm>
            <a:off x="0" y="3214800"/>
            <a:ext cx="2786040" cy="3643200"/>
          </a:xfrm>
          <a:prstGeom prst="rect">
            <a:avLst/>
          </a:prstGeom>
          <a:ln w="0">
            <a:noFill/>
          </a:ln>
        </p:spPr>
      </p:pic>
      <p:sp>
        <p:nvSpPr>
          <p:cNvPr id="1399" name="TextBox 8"/>
          <p:cNvSpPr/>
          <p:nvPr/>
        </p:nvSpPr>
        <p:spPr>
          <a:xfrm>
            <a:off x="4429080" y="3643200"/>
            <a:ext cx="3643200" cy="2288520"/>
          </a:xfrm>
          <a:prstGeom prst="rect">
            <a:avLst/>
          </a:prstGeom>
          <a:noFill/>
          <a:ln w="9360">
            <a:solidFill>
              <a:srgbClr val="2c71ff"/>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that Brad Pitt would make a great Paul, he’s tall, slim, short hair, and has played many roles as a tough guy. He can fit very well into what ever character he is needed to portrayed. He has played in films like “Troy” and “Thelma &amp; Lou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TextBox 3"/>
          <p:cNvSpPr/>
          <p:nvPr/>
        </p:nvSpPr>
        <p:spPr>
          <a:xfrm>
            <a:off x="4500720" y="642960"/>
            <a:ext cx="4071960" cy="2014200"/>
          </a:xfrm>
          <a:prstGeom prst="rect">
            <a:avLst/>
          </a:prstGeom>
          <a:noFill/>
          <a:ln w="9360">
            <a:solidFill>
              <a:srgbClr val="2c71ff"/>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icio Del would play the role of Werner best. He’s taller and has the black hair to fit the description. He would make the best doctor, and portray a calm and humorous personality. He has been in such films as “Traffic” and “The Wolfman”.</a:t>
            </a:r>
            <a:endParaRPr b="0" lang="en-US" sz="1800" spc="-1" strike="noStrike">
              <a:solidFill>
                <a:srgbClr val="000000"/>
              </a:solidFill>
              <a:latin typeface="Arial"/>
            </a:endParaRPr>
          </a:p>
        </p:txBody>
      </p:sp>
      <p:pic>
        <p:nvPicPr>
          <p:cNvPr id="1401" name="Picture 2" descr=""/>
          <p:cNvPicPr/>
          <p:nvPr/>
        </p:nvPicPr>
        <p:blipFill>
          <a:blip r:embed="rId1"/>
          <a:stretch/>
        </p:blipFill>
        <p:spPr>
          <a:xfrm>
            <a:off x="0" y="0"/>
            <a:ext cx="4332240" cy="3929040"/>
          </a:xfrm>
          <a:prstGeom prst="rect">
            <a:avLst/>
          </a:prstGeom>
          <a:ln w="0">
            <a:noFill/>
          </a:ln>
        </p:spPr>
      </p:pic>
      <p:pic>
        <p:nvPicPr>
          <p:cNvPr id="1402" name="Picture 4" descr=""/>
          <p:cNvPicPr/>
          <p:nvPr/>
        </p:nvPicPr>
        <p:blipFill>
          <a:blip r:embed="rId2"/>
          <a:stretch/>
        </p:blipFill>
        <p:spPr>
          <a:xfrm>
            <a:off x="0" y="3714840"/>
            <a:ext cx="4357800" cy="3143160"/>
          </a:xfrm>
          <a:prstGeom prst="rect">
            <a:avLst/>
          </a:prstGeom>
          <a:ln w="0">
            <a:noFill/>
          </a:ln>
        </p:spPr>
      </p:pic>
      <p:sp>
        <p:nvSpPr>
          <p:cNvPr id="1403" name="TextBox 4"/>
          <p:cNvSpPr/>
          <p:nvPr/>
        </p:nvSpPr>
        <p:spPr>
          <a:xfrm>
            <a:off x="4786200" y="3929040"/>
            <a:ext cx="39290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TextBox 6"/>
          <p:cNvSpPr/>
          <p:nvPr/>
        </p:nvSpPr>
        <p:spPr>
          <a:xfrm>
            <a:off x="4572000" y="3786120"/>
            <a:ext cx="3929040" cy="2562840"/>
          </a:xfrm>
          <a:prstGeom prst="rect">
            <a:avLst/>
          </a:prstGeom>
          <a:noFill/>
          <a:ln w="9360">
            <a:solidFill>
              <a:srgbClr val="2c71ff"/>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 Aron is a British actor would make an exceptional MacSwain. MacSwain in the novel is also said to be part Bristish so that works. Pal would also be able to play the part of a creepy, not much known about killer who stalks women. He has played in such films as “Casualty” and “The Bi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title"/>
          </p:nvPr>
        </p:nvSpPr>
        <p:spPr>
          <a:xfrm>
            <a:off x="3071520" y="285480"/>
            <a:ext cx="2857320" cy="1143000"/>
          </a:xfrm>
          <a:prstGeom prst="rect">
            <a:avLst/>
          </a:prstGeom>
          <a:noFill/>
          <a:ln w="9360">
            <a:solidFill>
              <a:srgbClr val="b2b5bb"/>
            </a:solidFill>
            <a:prstDash val="sysDot"/>
            <a:miter/>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lot</a:t>
            </a:r>
            <a:endParaRPr b="0" lang="en-US" sz="4600" spc="-1" strike="noStrike">
              <a:solidFill>
                <a:srgbClr val="ffffff"/>
              </a:solidFill>
              <a:latin typeface="Franklin Gothic Book"/>
            </a:endParaRPr>
          </a:p>
        </p:txBody>
      </p:sp>
      <p:sp>
        <p:nvSpPr>
          <p:cNvPr id="1406" name=""/>
          <p:cNvSpPr txBox="1"/>
          <p:nvPr/>
        </p:nvSpPr>
        <p:spPr>
          <a:xfrm>
            <a:off x="457200" y="1599840"/>
            <a:ext cx="7972560" cy="3686040"/>
          </a:xfrm>
          <a:prstGeom prst="rect">
            <a:avLst/>
          </a:prstGeom>
          <a:noFill/>
          <a:ln w="9360">
            <a:solidFill>
              <a:srgbClr val="b2b5bb"/>
            </a:solidFill>
            <a:miter/>
          </a:ln>
        </p:spPr>
        <p:txBody>
          <a:bodyPr anchor="t">
            <a:normAutofit/>
          </a:bodyPr>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Jan Fabel had not gone home after he had suspected that he had caught the real killer to relax he would not have found the book that explained all the names. If he had not decided to sit and read that book, then a lot of bad things would have happened. First he would never have found out the true meaning behind MacSwains name, therefore not piecing together that Anna would be in great trouble after she had gone on a failed date with the serial killer. He would have never got there to save the life of Anna and capture MacSwain. The book would end as if the killer was yet to be found and he would still be out there. Thus changing the whole ending of the nov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2" name="Picture 2" descr="C:\Documents and Settings\Earl\Local Settings\Temporary Internet Files\Content.IE5\WDCNJPG1\MCj00887320000[1].wmf"/>
          <p:cNvPicPr/>
          <p:nvPr/>
        </p:nvPicPr>
        <p:blipFill>
          <a:blip r:embed="rId1"/>
          <a:stretch/>
        </p:blipFill>
        <p:spPr>
          <a:xfrm>
            <a:off x="2214720" y="0"/>
            <a:ext cx="3878280" cy="3995640"/>
          </a:xfrm>
          <a:prstGeom prst="rect">
            <a:avLst/>
          </a:prstGeom>
          <a:ln w="0">
            <a:noFill/>
          </a:ln>
        </p:spPr>
      </p:pic>
      <p:sp>
        <p:nvSpPr>
          <p:cNvPr id="1353" name="PlaceHolder 1"/>
          <p:cNvSpPr>
            <a:spLocks noGrp="1"/>
          </p:cNvSpPr>
          <p:nvPr>
            <p:ph type="title"/>
          </p:nvPr>
        </p:nvSpPr>
        <p:spPr>
          <a:xfrm rot="19680600">
            <a:off x="-263520" y="-118080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75f6d"/>
                </a:solidFill>
                <a:latin typeface="Century Schoolbook"/>
              </a:rPr>
              <a:t>THEME</a:t>
            </a:r>
            <a:endParaRPr b="0" lang="en-US" sz="5400" spc="-1" strike="noStrike">
              <a:solidFill>
                <a:srgbClr val="575f6d"/>
              </a:solidFill>
              <a:latin typeface="Century Schoolbook"/>
            </a:endParaRPr>
          </a:p>
        </p:txBody>
      </p:sp>
      <p:sp>
        <p:nvSpPr>
          <p:cNvPr id="1354" name=""/>
          <p:cNvSpPr txBox="1"/>
          <p:nvPr/>
        </p:nvSpPr>
        <p:spPr>
          <a:xfrm>
            <a:off x="428400" y="1984320"/>
            <a:ext cx="7467480" cy="4873680"/>
          </a:xfrm>
          <a:prstGeom prst="rect">
            <a:avLst/>
          </a:prstGeom>
          <a:noFill/>
          <a:ln w="0">
            <a:noFill/>
          </a:ln>
        </p:spPr>
        <p:txBody>
          <a:bodyPr anchor="t">
            <a:normAutofit fontScale="98000"/>
          </a:bodyPr>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e75c01"/>
                </a:solidFill>
                <a:latin typeface="Century Schoolbook"/>
              </a:rPr>
              <a:t>The author chose this name for his novel because in the book the killer uses an ancient method of killing known as The Blood Eagle. It was used by the Vikings as a way of giving that person wings. The ribs were cut from the victims spine and then pulled out to resemble a bloody set of wings. The lungs were also torn out of the chest and thrown over the victims shoulder. I believe that this title is appropriate for this novel because it has everything to do with what the book is dealing with. In the book it also describes how the victims bodies were after each murder, and how it’s a religious act that used to be preformed.  </a:t>
            </a:r>
            <a:endParaRPr b="0" lang="en-US" sz="2400" spc="-1" strike="noStrike">
              <a:solidFill>
                <a:srgbClr val="000000"/>
              </a:solidFill>
              <a:latin typeface="Century Schoolbook"/>
            </a:endParaRPr>
          </a:p>
        </p:txBody>
      </p:sp>
      <p:sp>
        <p:nvSpPr>
          <p:cNvPr id="1355" name="AutoShape 3"/>
          <p:cNvSpPr/>
          <p:nvPr/>
        </p:nvSpPr>
        <p:spPr>
          <a:xfrm>
            <a:off x="2214720" y="0"/>
            <a:ext cx="3878280" cy="399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6" name="Picture 6" descr=""/>
          <p:cNvPicPr/>
          <p:nvPr/>
        </p:nvPicPr>
        <p:blipFill>
          <a:blip r:embed="rId2"/>
          <a:stretch/>
        </p:blipFill>
        <p:spPr>
          <a:xfrm>
            <a:off x="9501120" y="-642960"/>
            <a:ext cx="4389480" cy="29196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path" presetID="0">
                                  <p:stCondLst>
                                    <p:cond delay="0"/>
                                  </p:stCondLst>
                                  <p:childTnLst>
                                    <p:animMotion origin="layout" path="M 5.83333E-006 5.92593E-006 C -0.01076 -0.01087 -0.02499 -0.01087 -0.03819 -0.01342 C -0.07135 -0.01226 -0.09305 -0.01574 -0.12152 -0.00671 C -0.1269 0.00024 -0.13489 0.00232 -0.14166 0.00672 C -0.14583 0.01528 -0.15103 0.01575 -0.15659 0.02223 C -0.16735 0.03496 -0.17308 0.05116 -0.18333 0.06436 C -0.18541 0.07639 -0.18801 0.08797 -0.18992 0.10001 C -0.19201 0.13172 -0.1927 0.15001 -0.19826 0.17778 C -0.19826 0.17825 -0.20624 0.27038 -0.18819 0.29329 C -0.18645 0.30093 -0.18419 0.30556 -0.17985 0.31112 C -0.17343 0.32848 -0.18072 0.31204 -0.16996 0.32663 C -0.16527 0.33288 -0.16649 0.34098 -0.15833 0.34445 C -0.14617 0.34977 -0.15173 0.34769 -0.14166 0.35116 C -0.13454 0.34468 -0.13159 0.34468 -0.12829 0.33565 C -0.1269 0.33218 -0.12656 0.32801 -0.12499 0.32454 C -0.12412 0.32269 -0.12256 0.32176 -0.12152 0.31991 C -0.11909 0.31575 -0.11492 0.30672 -0.11492 0.30672 C -0.10798 0.27038 -0.12412 0.25487 -0.14166 0.23565 C -0.14912 0.22755 -0.15728 0.21621 -0.16666 0.21343 C -0.18055 0.19399 -0.19704 0.20556 -0.21822 0.20672 C -0.22673 0.20926 -0.23315 0.21644 -0.24166 0.21991 C -0.24912 0.22709 -0.25416 0.2338 -0.25833 0.24445 C -0.26076 0.25811 -0.26596 0.27084 -0.26822 0.2845 C -0.26892 0.28889 -0.26926 0.29329 -0.26996 0.29769 C -0.27048 0.3007 -0.271 0.30371 -0.27152 0.30672 C -0.27378 0.39121 -0.27187 0.35116 -0.27656 0.42663 C -0.27708 0.43589 -0.2809 0.44445 -0.28333 0.45325 C -0.28801 0.46991 -0.29183 0.48704 -0.29826 0.50232 C -0.30329 0.51413 -0.30989 0.52477 -0.31319 0.53774 C -0.321 0.56922 -0.33176 0.60047 -0.34496 0.62894 C -0.35971 0.66065 -0.37239 0.70325 -0.39999 0.71783 C -0.42551 0.70301 -0.39635 0.71806 -0.42656 0.7088 C -0.43263 0.70695 -0.43315 0.70348 -0.43819 0.70001 C -0.44774 0.69352 -0.45833 0.68982 -0.46822 0.6845 C -0.47794 0.6794 -0.48055 0.67339 -0.48819 0.66667 C -0.50399 0.65255 -0.51909 0.63843 -0.53489 0.62454 C -0.54166 0.61065 -0.53402 0.62524 -0.54496 0.6088 C -0.55138 0.59908 -0.55069 0.59723 -0.55659 0.5845 C -0.55971 0.57755 -0.56666 0.56436 -0.56666 0.56436 C -0.57169 0.53658 -0.56371 0.57454 -0.57326 0.54885 C -0.57621 0.54121 -0.5776 0.53264 -0.57985 0.52454 C -0.58142 0.51876 -0.58437 0.51413 -0.58662 0.5088 C -0.59044 0.48612 -0.59721 0.46528 -0.59999 0.44214 C -0.60121 0.43172 -0.60329 0.41112 -0.60329 0.41112 C -0.60051 0.32339 -0.60242 0.33797 -0.59826 0.28658 C -0.59635 0.26436 -0.5993 0.27223 -0.59322 0.25996 C -0.58333 0.21274 -0.58697 0.23357 -0.58159 0.19769 C -0.57933 0.16644 -0.57933 0.1345 -0.57152 0.1044 C -0.57013 0.08542 -0.57013 0.07269 -0.56162 0.05788 C -0.55902 0.04792 -0.55607 0.04977 -0.55156 0.04214 C -0.54635 0.03334 -0.5434 0.02801 -0.53489 0.02454 C -0.52586 0.00626 -0.50138 0.00301 -0.48662 5.92593E-006 C -0.47881 -0.0037 -0.47499 -0.00439 -0.46666 -0.00231 C -0.46492 -0.00069 -0.46353 0.00116 -0.46162 0.00232 C -0.46006 0.00348 -0.45798 0.00301 -0.45659 0.0044 C -0.44826 0.01158 -0.4427 0.02176 -0.43819 0.03334 C -0.43645 0.04283 -0.43246 0.05255 -0.43662 0.06227 C -0.43906 0.0676 -0.44322 0.07107 -0.44652 0.07547 C -0.44791 0.07732 -0.44843 0.08033 -0.44999 0.08218 C -0.45294 0.08565 -0.45711 0.08751 -0.45989 0.09121 C -0.46267 0.09491 -0.4651 0.09931 -0.46822 0.10232 C -0.47777 0.11158 -0.4736 0.10672 -0.48333 0.11991 C -0.48437 0.12153 -0.48662 0.12454 -0.48662 0.12454 C -0.48853 0.13496 -0.49096 0.13496 -0.49322 0.14445 C -0.49201 0.16806 -0.49617 0.20764 -0.47499 0.21783 C -0.47239 0.22778 -0.46909 0.22547 -0.46666 0.23565 C -0.46822 0.24908 -0.47031 0.26135 -0.47499 0.27339 C -0.47447 0.27848 -0.47395 0.2838 -0.47326 0.28889 C -0.47291 0.2919 -0.47152 0.29769 -0.47152 0.29769 E">
                                      <p:cBhvr>
                                        <p:cTn id="13" dur="2000" fill="hold"/>
                                        <p:tgtEl>
                                          <p:spTgt spid="13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flict</a:t>
            </a:r>
            <a:endParaRPr b="0" lang="en-US" sz="4400" spc="-1" strike="noStrike">
              <a:solidFill>
                <a:srgbClr val="775f55"/>
              </a:solidFill>
              <a:latin typeface="Tw Cen MT"/>
            </a:endParaRPr>
          </a:p>
        </p:txBody>
      </p:sp>
      <p:pic>
        <p:nvPicPr>
          <p:cNvPr id="1358" name="Picture 2" descr="C:\Program Files\Microsoft Office\MEDIA\CAGCAT10\j0298653.wmf"/>
          <p:cNvPicPr/>
          <p:nvPr/>
        </p:nvPicPr>
        <p:blipFill>
          <a:blip r:embed="rId1"/>
          <a:stretch/>
        </p:blipFill>
        <p:spPr>
          <a:xfrm>
            <a:off x="3214800" y="214200"/>
            <a:ext cx="1780920" cy="1060560"/>
          </a:xfrm>
          <a:prstGeom prst="rect">
            <a:avLst/>
          </a:prstGeom>
          <a:ln w="0">
            <a:noFill/>
          </a:ln>
        </p:spPr>
      </p:pic>
      <p:pic>
        <p:nvPicPr>
          <p:cNvPr id="1359" name="Picture 2" descr="C:\Program Files\Microsoft Office\MEDIA\CAGCAT10\j0298653.wmf"/>
          <p:cNvPicPr/>
          <p:nvPr/>
        </p:nvPicPr>
        <p:blipFill>
          <a:blip r:embed="rId2"/>
          <a:stretch/>
        </p:blipFill>
        <p:spPr>
          <a:xfrm>
            <a:off x="5353200" y="195120"/>
            <a:ext cx="1785960" cy="1090800"/>
          </a:xfrm>
          <a:prstGeom prst="rect">
            <a:avLst/>
          </a:prstGeom>
          <a:ln w="0">
            <a:noFill/>
          </a:ln>
        </p:spPr>
      </p:pic>
      <p:sp>
        <p:nvSpPr>
          <p:cNvPr id="1360" name="TextBox 5"/>
          <p:cNvSpPr/>
          <p:nvPr/>
        </p:nvSpPr>
        <p:spPr>
          <a:xfrm>
            <a:off x="642960" y="1428840"/>
            <a:ext cx="78580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Bradley Hand ITC"/>
              </a:rPr>
              <a:t>In the novel “Blood Eagle”, the main theme of conflict is person vs. person. The character named Jan Fabel is looking for a serial killer who kills women by tearing out the victims ribs to make an arc and then throws their lungs over their shoulders. This bloody form of torture was an ancient torture preformed by the Vikings. The man that he is looking for sends him emails that can never be traced, always signed with the name Son of Sven. Jan Fabel is lead on a wild goose chase, looking in the most desolate areas to find this monstrous murderer. He leaves barely any forensic evidence that will lead to his capture except for his name Son of Sven. Fabel has to find this man before he murders any more innocent wom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path" presetID="0">
                                  <p:stCondLst>
                                    <p:cond delay="0"/>
                                  </p:stCondLst>
                                  <p:childTnLst>
                                    <p:animMotion origin="layout" path="M 3.33333E-006 2.59259E-006 C -0.03247 -0.00185 -0.07187 -0.00532 -0.1033 2.59259E-006 C -0.11493 0.00185 -0.05017 0.00672 -0.08507 0.00672 E">
                                      <p:cBhvr>
                                        <p:cTn id="19" dur="2000" fill="hold"/>
                                        <p:tgtEl>
                                          <p:spTgt spid="1359"/>
                                        </p:tgtEl>
                                      </p:cBhvr>
                                    </p:animMotion>
                                  </p:childTnLst>
                                </p:cTn>
                              </p:par>
                              <p:par>
                                <p:cTn id="20" nodeType="withEffect" fill="hold" presetClass="path" presetID="0">
                                  <p:stCondLst>
                                    <p:cond delay="0"/>
                                  </p:stCondLst>
                                  <p:childTnLst>
                                    <p:animMotion origin="layout" path="M 1.11111E-006 8.88889E-006 C 0.22309 0.00394 0.09184 8.88889000000021E-006 0.02343 0.0044 C 0.01562 0.00487 0.03889 0.00626 0.0467 0.00649 C 0.07066 0.00695 0.09444 0.00649 0.1184 0.00649 E">
                                      <p:cBhvr>
                                        <p:cTn id="21" dur="2000" fill="hold"/>
                                        <p:tgtEl>
                                          <p:spTgt spid="135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flict</a:t>
            </a:r>
            <a:endParaRPr b="0" lang="en-US" sz="4400" spc="-1" strike="noStrike">
              <a:solidFill>
                <a:srgbClr val="775f55"/>
              </a:solidFill>
              <a:latin typeface="Tw Cen MT"/>
            </a:endParaRPr>
          </a:p>
        </p:txBody>
      </p:sp>
      <p:sp>
        <p:nvSpPr>
          <p:cNvPr id="1362" name=""/>
          <p:cNvSpPr txBox="1"/>
          <p:nvPr/>
        </p:nvSpPr>
        <p:spPr>
          <a:xfrm>
            <a:off x="612720" y="1600200"/>
            <a:ext cx="8153280" cy="5043600"/>
          </a:xfrm>
          <a:prstGeom prst="rect">
            <a:avLst/>
          </a:prstGeom>
          <a:noFill/>
          <a:ln w="0">
            <a:noFill/>
          </a:ln>
        </p:spPr>
        <p:txBody>
          <a:bodyPr anchor="t">
            <a:normAutofit fontScale="91000"/>
          </a:bodyPr>
          <a:p>
            <a:pPr marL="290160" indent="-290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Towards the end of the novel Jan Fabel and his crew of police officers chase after this MacSwain on the hunt to get back one of their own, Anna. They get there just in time and create a giant brawl. Shots are fired and MacSwain and his fellow counselors are either shot or captured. All but one escape. During the mass confusion Paul, another of Fabels team is gunned down. </a:t>
            </a:r>
            <a:endParaRPr b="0" lang="en-US" sz="2400" spc="-1" strike="noStrike">
              <a:solidFill>
                <a:srgbClr val="000000"/>
              </a:solidFill>
              <a:latin typeface="Tw Cen MT"/>
            </a:endParaRPr>
          </a:p>
          <a:p>
            <a:pPr marL="290160" indent="-290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This all began when Anna decided to go on a date with Mcswain to get evidence against him. If Anna had never gone on the date she would have never been tired and then let MacSwain into her house. </a:t>
            </a:r>
            <a:endParaRPr b="0" lang="en-US" sz="2400" spc="-1" strike="noStrike">
              <a:solidFill>
                <a:srgbClr val="000000"/>
              </a:solidFill>
              <a:latin typeface="Tw Cen MT"/>
            </a:endParaRPr>
          </a:p>
          <a:p>
            <a:pPr marL="290160" indent="-290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They would have never had to go on a rescue mission, and no one would have been in danger of getting shot. Although MacSwain would have most likely never been caught.</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title"/>
          </p:nvPr>
        </p:nvSpPr>
        <p:spPr>
          <a:xfrm>
            <a:off x="50004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Blade Runner Movie Font"/>
              </a:rPr>
              <a:t>Writing Style</a:t>
            </a:r>
            <a:endParaRPr b="0" lang="en-US" sz="5000" spc="-1" strike="noStrike">
              <a:solidFill>
                <a:srgbClr val="dbf5f9"/>
              </a:solidFill>
              <a:latin typeface="Calibri"/>
            </a:endParaRPr>
          </a:p>
        </p:txBody>
      </p:sp>
      <p:sp>
        <p:nvSpPr>
          <p:cNvPr id="1364" name=""/>
          <p:cNvSpPr txBox="1"/>
          <p:nvPr/>
        </p:nvSpPr>
        <p:spPr>
          <a:xfrm>
            <a:off x="457200" y="1071360"/>
            <a:ext cx="8229600" cy="5786280"/>
          </a:xfrm>
          <a:prstGeom prst="rect">
            <a:avLst/>
          </a:prstGeom>
          <a:noFill/>
          <a:ln w="0">
            <a:noFill/>
          </a:ln>
        </p:spPr>
        <p:txBody>
          <a:bodyPr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She was spread eagled on the bed, her outstretched wrists and ankles bound to the post, her abdomen grotesquely deformed.” P.10, Paragraph 3</a:t>
            </a:r>
            <a:br>
              <a:rPr sz="2400"/>
            </a:br>
            <a:endParaRPr b="0" lang="en-US" sz="2400" spc="-1" strike="noStrike">
              <a:solidFill>
                <a:srgbClr val="ffffff"/>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Moving lights flickering through the silhouette trunks of trees” P.89, Paragraph 2</a:t>
            </a:r>
            <a:br>
              <a:rPr sz="2400"/>
            </a:br>
            <a:endParaRPr b="0" lang="en-US" sz="2400" spc="-1" strike="noStrike">
              <a:solidFill>
                <a:srgbClr val="ffffff"/>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Next to him stood Dr Franz Stern, a lean, handsome physician with a thick mane of black hair who towered immaculately above the crumpled SchuPo officer.” P.95, Paragraph 3</a:t>
            </a:r>
            <a:br>
              <a:rPr sz="2400"/>
            </a:br>
            <a:endParaRPr b="0" lang="en-US" sz="2400" spc="-1" strike="noStrike">
              <a:solidFill>
                <a:srgbClr val="ffffff"/>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Despite it being nearly noon and despite the absence of all but the occasional shard of glass in the windows that ran the length of one wall, the swimming pool had a gloom to it, as if the grime from the walls and floor had pervaded the air and dulled the light.” P.194, Paragraph 1</a:t>
            </a:r>
            <a:br>
              <a:rPr sz="2400"/>
            </a:b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Blade Runner Movie Font"/>
              </a:rPr>
              <a:t>Writing Style</a:t>
            </a:r>
            <a:endParaRPr b="0" lang="en-US" sz="5000" spc="-1" strike="noStrike">
              <a:solidFill>
                <a:srgbClr val="dbf5f9"/>
              </a:solidFill>
              <a:latin typeface="Calibri"/>
            </a:endParaRPr>
          </a:p>
        </p:txBody>
      </p:sp>
      <p:sp>
        <p:nvSpPr>
          <p:cNvPr id="13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The bearded mouth was twisted in a berserker’s snarl, the one eye hole shadowed black by the angle at which the spotlights cast their beams.” P.383, Paragraph 1</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1"/>
              </a:rPr>
              <a:t>http://www.wordle.net/show/wrdl/1526486/Untitled</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704520"/>
            <a:ext cx="8229600" cy="3367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bf5f9"/>
                </a:solidFill>
                <a:latin typeface="Calibri"/>
              </a:rPr>
              <a:t>Characters</a:t>
            </a:r>
            <a:endParaRPr b="0" lang="en-US" sz="8000" spc="-1" strike="noStrike">
              <a:solidFill>
                <a:srgbClr val="dbf5f9"/>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8" name="Title 1" descr=""/>
          <p:cNvPicPr/>
          <p:nvPr/>
        </p:nvPicPr>
        <p:blipFill>
          <a:blip r:embed="rId1"/>
          <a:stretch/>
        </p:blipFill>
        <p:spPr>
          <a:xfrm>
            <a:off x="-6480" y="-122400"/>
            <a:ext cx="4913280" cy="1573200"/>
          </a:xfrm>
          <a:prstGeom prst="rect">
            <a:avLst/>
          </a:prstGeom>
          <a:ln w="0">
            <a:noFill/>
          </a:ln>
        </p:spPr>
      </p:pic>
      <p:pic>
        <p:nvPicPr>
          <p:cNvPr id="1369" name="TextBox 5" descr=""/>
          <p:cNvPicPr/>
          <p:nvPr/>
        </p:nvPicPr>
        <p:blipFill>
          <a:blip r:embed="rId2"/>
          <a:stretch/>
        </p:blipFill>
        <p:spPr>
          <a:xfrm>
            <a:off x="3560760" y="1139760"/>
            <a:ext cx="2590920" cy="603360"/>
          </a:xfrm>
          <a:prstGeom prst="rect">
            <a:avLst/>
          </a:prstGeom>
          <a:ln w="0">
            <a:noFill/>
          </a:ln>
        </p:spPr>
      </p:pic>
      <p:pic>
        <p:nvPicPr>
          <p:cNvPr id="1370" name="Picture 2" descr="C:\Documents and Settings\Earl\Local Settings\Temporary Internet Files\Content.IE5\0DH2EKU3\MCj04419560000[1].wmf"/>
          <p:cNvPicPr/>
          <p:nvPr/>
        </p:nvPicPr>
        <p:blipFill>
          <a:blip r:embed="rId3"/>
          <a:stretch/>
        </p:blipFill>
        <p:spPr>
          <a:xfrm rot="5400000">
            <a:off x="3993120" y="2078640"/>
            <a:ext cx="1214280" cy="628920"/>
          </a:xfrm>
          <a:prstGeom prst="rect">
            <a:avLst/>
          </a:prstGeom>
          <a:ln w="0">
            <a:noFill/>
          </a:ln>
        </p:spPr>
      </p:pic>
      <p:pic>
        <p:nvPicPr>
          <p:cNvPr id="1371" name="TextBox 7" descr=""/>
          <p:cNvPicPr/>
          <p:nvPr/>
        </p:nvPicPr>
        <p:blipFill>
          <a:blip r:embed="rId4"/>
          <a:stretch/>
        </p:blipFill>
        <p:spPr>
          <a:xfrm>
            <a:off x="3419640" y="2925720"/>
            <a:ext cx="2371680" cy="603360"/>
          </a:xfrm>
          <a:prstGeom prst="rect">
            <a:avLst/>
          </a:prstGeom>
          <a:ln w="0">
            <a:noFill/>
          </a:ln>
        </p:spPr>
      </p:pic>
      <p:pic>
        <p:nvPicPr>
          <p:cNvPr id="1372" name="Picture 3" descr="C:\Documents and Settings\Earl\Local Settings\Temporary Internet Files\Content.IE5\0DH2EKU3\MCj04419560000[1].wmf"/>
          <p:cNvPicPr/>
          <p:nvPr/>
        </p:nvPicPr>
        <p:blipFill>
          <a:blip r:embed="rId5"/>
          <a:stretch/>
        </p:blipFill>
        <p:spPr>
          <a:xfrm rot="18496200">
            <a:off x="2477880" y="3940200"/>
            <a:ext cx="1790640" cy="628560"/>
          </a:xfrm>
          <a:prstGeom prst="rect">
            <a:avLst/>
          </a:prstGeom>
          <a:ln w="0">
            <a:noFill/>
          </a:ln>
        </p:spPr>
      </p:pic>
      <p:pic>
        <p:nvPicPr>
          <p:cNvPr id="1373" name="Picture 4" descr="C:\Documents and Settings\Earl\Local Settings\Temporary Internet Files\Content.IE5\0DH2EKU3\MCj04419560000[1].wmf"/>
          <p:cNvPicPr/>
          <p:nvPr/>
        </p:nvPicPr>
        <p:blipFill>
          <a:blip r:embed="rId6"/>
          <a:stretch/>
        </p:blipFill>
        <p:spPr>
          <a:xfrm rot="3170400">
            <a:off x="4695480" y="3946680"/>
            <a:ext cx="1790640" cy="628560"/>
          </a:xfrm>
          <a:prstGeom prst="rect">
            <a:avLst/>
          </a:prstGeom>
          <a:ln w="0">
            <a:noFill/>
          </a:ln>
        </p:spPr>
      </p:pic>
      <p:pic>
        <p:nvPicPr>
          <p:cNvPr id="1374" name="Picture 5" descr="C:\Documents and Settings\Earl\Local Settings\Temporary Internet Files\Content.IE5\0DH2EKU3\MCj04419560000[1].wmf"/>
          <p:cNvPicPr/>
          <p:nvPr/>
        </p:nvPicPr>
        <p:blipFill>
          <a:blip r:embed="rId7"/>
          <a:stretch/>
        </p:blipFill>
        <p:spPr>
          <a:xfrm>
            <a:off x="3714840" y="5000760"/>
            <a:ext cx="1790640" cy="628560"/>
          </a:xfrm>
          <a:prstGeom prst="rect">
            <a:avLst/>
          </a:prstGeom>
          <a:ln w="0">
            <a:noFill/>
          </a:ln>
        </p:spPr>
      </p:pic>
      <p:pic>
        <p:nvPicPr>
          <p:cNvPr id="1375" name="TextBox 12" descr=""/>
          <p:cNvPicPr/>
          <p:nvPr/>
        </p:nvPicPr>
        <p:blipFill>
          <a:blip r:embed="rId8"/>
          <a:stretch/>
        </p:blipFill>
        <p:spPr>
          <a:xfrm>
            <a:off x="2060640" y="5072040"/>
            <a:ext cx="1944720" cy="603360"/>
          </a:xfrm>
          <a:prstGeom prst="rect">
            <a:avLst/>
          </a:prstGeom>
          <a:ln w="0">
            <a:noFill/>
          </a:ln>
        </p:spPr>
      </p:pic>
      <p:pic>
        <p:nvPicPr>
          <p:cNvPr id="1376" name="TextBox 13" descr=""/>
          <p:cNvPicPr/>
          <p:nvPr/>
        </p:nvPicPr>
        <p:blipFill>
          <a:blip r:embed="rId9"/>
          <a:stretch/>
        </p:blipFill>
        <p:spPr>
          <a:xfrm>
            <a:off x="5705640" y="5072040"/>
            <a:ext cx="1585800" cy="603360"/>
          </a:xfrm>
          <a:prstGeom prst="rect">
            <a:avLst/>
          </a:prstGeom>
          <a:ln w="0">
            <a:noFill/>
          </a:ln>
        </p:spPr>
      </p:pic>
      <p:pic>
        <p:nvPicPr>
          <p:cNvPr id="1377" name="Picture 6" descr="C:\Documents and Settings\Earl\Local Settings\Temporary Internet Files\Content.IE5\0DH2EKU3\MCj04419560000[1].wmf"/>
          <p:cNvPicPr/>
          <p:nvPr/>
        </p:nvPicPr>
        <p:blipFill>
          <a:blip r:embed="rId10"/>
          <a:stretch/>
        </p:blipFill>
        <p:spPr>
          <a:xfrm rot="19977000">
            <a:off x="5398920" y="2462040"/>
            <a:ext cx="1791000" cy="628920"/>
          </a:xfrm>
          <a:prstGeom prst="rect">
            <a:avLst/>
          </a:prstGeom>
          <a:ln w="0">
            <a:noFill/>
          </a:ln>
        </p:spPr>
      </p:pic>
      <p:pic>
        <p:nvPicPr>
          <p:cNvPr id="1378" name="TextBox 15" descr=""/>
          <p:cNvPicPr/>
          <p:nvPr/>
        </p:nvPicPr>
        <p:blipFill>
          <a:blip r:embed="rId11"/>
          <a:stretch/>
        </p:blipFill>
        <p:spPr>
          <a:xfrm>
            <a:off x="7132680" y="1925640"/>
            <a:ext cx="1657440" cy="604800"/>
          </a:xfrm>
          <a:prstGeom prst="rect">
            <a:avLst/>
          </a:prstGeom>
          <a:ln w="0">
            <a:noFill/>
          </a:ln>
        </p:spPr>
      </p:pic>
      <p:pic>
        <p:nvPicPr>
          <p:cNvPr id="1379" name="TextBox 16" descr=""/>
          <p:cNvPicPr/>
          <p:nvPr/>
        </p:nvPicPr>
        <p:blipFill>
          <a:blip r:embed="rId12"/>
          <a:stretch/>
        </p:blipFill>
        <p:spPr>
          <a:xfrm>
            <a:off x="7066080" y="2859120"/>
            <a:ext cx="1687320" cy="596880"/>
          </a:xfrm>
          <a:prstGeom prst="rect">
            <a:avLst/>
          </a:prstGeom>
          <a:ln w="0">
            <a:noFill/>
          </a:ln>
        </p:spPr>
      </p:pic>
      <p:pic>
        <p:nvPicPr>
          <p:cNvPr id="1380" name="TextBox 17" descr=""/>
          <p:cNvPicPr/>
          <p:nvPr/>
        </p:nvPicPr>
        <p:blipFill>
          <a:blip r:embed="rId13"/>
          <a:stretch/>
        </p:blipFill>
        <p:spPr>
          <a:xfrm>
            <a:off x="7491240" y="2139840"/>
            <a:ext cx="689040" cy="81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txBox="1"/>
          <p:nvPr/>
        </p:nvSpPr>
        <p:spPr>
          <a:xfrm>
            <a:off x="428760" y="1642680"/>
            <a:ext cx="8229600" cy="46753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Jan Fabel’s physical description is never discussed, but it can be infered that since he is a police officer he is most likely quite well built, slim, tall, muscular and about mid-aged. Jan Fabel has a German mother and a Scottish father, and has a very strong German accent. He is a very strong willed character who is very determined to find his killer. He is attached to his work. His wife has divorced him and has taken his daughter, who occasionally visits. Jan is also very caring for his team of officers and looks out for them as if they were his own.  His determination is high as he struggles to catch the killer in time before he strikes again. Jan is intelligent and can think about situations and what may occur when some action is taken. He loves to read and has many friends in high and low places which help him to find the killer.</a:t>
            </a:r>
            <a:endParaRPr b="0" lang="en-US" sz="1800" spc="-1" strike="noStrike">
              <a:solidFill>
                <a:srgbClr val="ffffff"/>
              </a:solidFill>
              <a:latin typeface="Constantia"/>
            </a:endParaRPr>
          </a:p>
        </p:txBody>
      </p:sp>
      <p:pic>
        <p:nvPicPr>
          <p:cNvPr id="1382" name="Picture 2" descr="C:\Documents and Settings\Earl\Local Settings\Temporary Internet Files\Content.IE5\WJDVYNDD\MPj04392570000[1].jpg"/>
          <p:cNvPicPr/>
          <p:nvPr/>
        </p:nvPicPr>
        <p:blipFill>
          <a:blip r:embed="rId1"/>
          <a:stretch/>
        </p:blipFill>
        <p:spPr>
          <a:xfrm>
            <a:off x="3643200" y="0"/>
            <a:ext cx="2214720" cy="1571760"/>
          </a:xfrm>
          <a:prstGeom prst="rect">
            <a:avLst/>
          </a:prstGeom>
          <a:ln w="0">
            <a:noFill/>
          </a:ln>
        </p:spPr>
      </p:pic>
      <p:sp>
        <p:nvSpPr>
          <p:cNvPr id="1383" name="TextBox 3"/>
          <p:cNvSpPr/>
          <p:nvPr/>
        </p:nvSpPr>
        <p:spPr>
          <a:xfrm>
            <a:off x="3214800" y="857160"/>
            <a:ext cx="264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0000"/>
                </a:solidFill>
                <a:latin typeface="Arial"/>
              </a:rPr>
              <a:t>Jan Fab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9T19:29:53Z</dcterms:created>
  <dc:creator>Earl</dc:creator>
  <dc:description/>
  <dc:language>en-US</dc:language>
  <cp:lastModifiedBy>Earl</cp:lastModifiedBy>
  <dcterms:modified xsi:type="dcterms:W3CDTF">2010-01-21T01:38:36Z</dcterms:modified>
  <cp:revision>27</cp:revision>
  <dc:subject/>
  <dc:title>PowerPoint  By: Bryson Foster</dc:title>
</cp:coreProperties>
</file>